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AFF-69DA-4E5E-A307-3171889E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25A-140B-499F-AE39-5121916B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CA7-2E07-42BF-A272-2198B45C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CCD-7D5D-4BBF-B1AB-DA1A48B5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958-FEC1-47E8-B9F6-E479B055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EC6-D05B-4ADB-9FA3-014E401C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DB5-B6CA-4879-AF5C-ED477CCF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708-0575-4EB5-9FBA-CA790E69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F8B-59C0-4AA0-BA1A-9FBA0F36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4FF-EA4A-44E2-88FA-1AEB15FF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B17-7247-4565-A08D-2E87DD3A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4B7-F272-47FF-8A24-933971A3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1997-1649-46BC-8121-BF56D9BEB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A Trip to the Firehou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017000" indent="-10170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1017000" indent="-10170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ra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1017000" indent="-10170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1017000" indent="-10170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1017000" indent="0">
              <a:spcBef>
                <a:spcPts val="17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1017000" indent="0">
              <a:spcBef>
                <a:spcPts val="17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ha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nai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rai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the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trai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pa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sai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43040" y="-360"/>
            <a:ext cx="4800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gre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snai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subwa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Chinatown</a:t>
            </a:r>
            <a:br>
              <a:rPr sz="35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a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pa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mai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inatown</a:t>
            </a: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n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419360" y="14475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. path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. wai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. exclai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1. rainsto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1920" y="151920"/>
            <a:ext cx="4343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rais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cont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path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191120" y="151920"/>
            <a:ext cx="49528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2. mailma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3. prais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4. plaype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5. quai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 Cobb</cp:lastModifiedBy>
  <cp:lastPrinted>2008-12-05T12:03:03Z</cp:lastPrinted>
  <dcterms:modified xsi:type="dcterms:W3CDTF">2008-12-15T12:27:26Z</dcterms:modified>
  <cp:revision>6</cp:revision>
  <dc:subject/>
  <dc:title>The Art Lesson Group A</dc:title>
</cp:coreProperties>
</file>